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24D-F563-4A14-8EE6-D980A01B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FA1-F5BA-4077-AD70-FD518E20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5A0-3CB1-41CA-B632-150C37A2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14A-EF50-4882-9FBC-97830444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E6C-D24A-4B25-A87A-FAAB281B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D51-3DAC-4774-8158-E8ED0CD6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689-6B6E-45EC-83A4-0BCBA990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9C1-E86C-4731-AF9F-6769F2E6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D32-B5FE-4624-B7AF-7D0D08AB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724-45AF-476C-BE56-C40D10DE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41D-88B1-40A3-81F5-78A185C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F9D-8BA0-4CE3-B03F-AA567CB2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0609-C166-4563-8BA6-CC7929857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nchantedlearning.com/usa/statesbw/westvirginia.s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495288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914400"/>
            <a:ext cx="73915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0000ff"/>
                    </a:gs>
                    <a:gs pos="100000">
                      <a:srgbClr val="ff33cc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st Virgin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0000ff"/>
                  </a:gs>
                  <a:gs pos="100000">
                    <a:srgbClr val="ff33cc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ital: Charle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ulation: 1,808,3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ed the Union: June 20, 18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Entered: 17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to: Mountaineers are always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kname: Mountai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wer: Rhododend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: Ca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ng: West Virginia my home, the West Virginia h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ning behind name: for Elizabeth I, the Virgin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esting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tree: sugar ma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st city: Charle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 Industries: mining (coal), livestock, chemical manufacturing, glass products, and tou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West Virginia: Map and State Flag"/>
          <p:cNvPicPr/>
          <p:nvPr/>
        </p:nvPicPr>
        <p:blipFill>
          <a:blip r:embed="rId1"/>
          <a:srcRect l="6256" t="0" r="6256" b="69022"/>
          <a:stretch/>
        </p:blipFill>
        <p:spPr>
          <a:xfrm>
            <a:off x="5257800" y="175248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3886200"/>
            <a:ext cx="3276720" cy="26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143000" y="5335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st Virginia is a wonderful place to visit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133720"/>
            <a:ext cx="3962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en’s Guide to U.S. Government for kids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Quick Facts: West Virgini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3/2/11, http://bensguide.gpo.gov/3-5/state/westvirgin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4495680"/>
            <a:ext cx="32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chanted Learning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est Virgini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3/2/11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nchantedlearning.com/usa/states/westvirgini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wks Nest is a  peaceful wilderness and placid lake top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rthern tip of the rugged New River Go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ll images Copyright © 1997 - 2000 WriteLine. All Rights Reserved. New River"/>
          <p:cNvPicPr/>
          <p:nvPr/>
        </p:nvPicPr>
        <p:blipFill>
          <a:blip r:embed="rId1"/>
          <a:stretch/>
        </p:blipFill>
        <p:spPr>
          <a:xfrm>
            <a:off x="1676520" y="1295280"/>
            <a:ext cx="5181480" cy="345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5029200"/>
            <a:ext cx="5715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Hawks Nest State Park, Ansted W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3/3/11, http://www.postcardsfrom.com/t1/99111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© 1998 WriteLine. Rosebay Rhododendron"/>
          <p:cNvPicPr/>
          <p:nvPr/>
        </p:nvPicPr>
        <p:blipFill>
          <a:blip r:embed="rId1"/>
          <a:stretch/>
        </p:blipFill>
        <p:spPr>
          <a:xfrm>
            <a:off x="609480" y="1523880"/>
            <a:ext cx="3353040" cy="308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© 1999 WriteLine. Cardinal"/>
          <p:cNvPicPr/>
          <p:nvPr/>
        </p:nvPicPr>
        <p:blipFill>
          <a:blip r:embed="rId2"/>
          <a:stretch/>
        </p:blipFill>
        <p:spPr>
          <a:xfrm>
            <a:off x="4724280" y="1523880"/>
            <a:ext cx="3029040" cy="312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20574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876920"/>
            <a:ext cx="381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876920"/>
            <a:ext cx="586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est Virginia State Stamp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/3/11, http://www.postcardsfrom.com/stamp/stamp-wv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33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ate Bird and Flow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17:25Z</dcterms:created>
  <dc:creator>install</dc:creator>
  <dc:description/>
  <dc:language>en-US</dc:language>
  <cp:lastModifiedBy>install</cp:lastModifiedBy>
  <dcterms:modified xsi:type="dcterms:W3CDTF">2011-03-16T15:55:25Z</dcterms:modified>
  <cp:revision>10</cp:revision>
  <dc:subject/>
  <dc:title>Slide 1</dc:title>
</cp:coreProperties>
</file>